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HIMES.WAV" ContentType="audio/x-wav"/>
  <Override PartName="/ppt/media/camera.wav" ContentType="audio/x-wav"/>
  <Override PartName="/ppt/media/EXPLODE.WAV" ContentType="audio/x-wav"/>
  <Override PartName="/ppt/media/image2.wmf" ContentType="image/x-wmf"/>
  <Override PartName="/ppt/media/driveby.wav" ContentType="audio/x-wav"/>
  <Override PartName="/ppt/media/carbrake.wav" ContentType="audio/x-wav"/>
  <Override PartName="/ppt/media/gunshot.wav" ContentType="audio/x-wav"/>
  <Override PartName="/ppt/media/LASER.WAV" ContentType="audio/x-wav"/>
  <Override PartName="/ppt/media/image1.wmf" ContentType="image/x-wmf"/>
  <Override PartName="/ppt/media/image3.wmf" ContentType="image/x-wmf"/>
  <Override PartName="/ppt/media/projctor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D6E-8951-4B8E-9F58-F8B59C64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BA8-63D4-4CA1-99FC-BB485D8B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C20-ABD7-4D32-AB63-A70C57B9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8E7-2A0F-400C-BD32-26927CA9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A12-D396-4302-94BB-C661DDC2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AD1-03E0-4515-A48F-EA7431E8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C8F-4B0F-4868-8C7B-84BDEDD8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4D1-7F67-41DB-838B-CACEC336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495-1D52-4E0B-8B9B-B09C69B4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871-333B-4FF4-A62B-68000757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441-57E4-4BB7-9548-D90F9BED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2E4-570E-4C30-B9B0-218EAE6A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D427-958E-4CDD-B9D8-FEA224D8A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driveby.wav"/><Relationship Id="rId6" Type="http://schemas.openxmlformats.org/officeDocument/2006/relationships/audio" Target="../media/carbrake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driveby.wav"/><Relationship Id="rId12" Type="http://schemas.openxmlformats.org/officeDocument/2006/relationships/audio" Target="../media/driveby.wav"/><Relationship Id="rId13" Type="http://schemas.openxmlformats.org/officeDocument/2006/relationships/audio" Target="../media/camera.wav"/><Relationship Id="rId14" Type="http://schemas.openxmlformats.org/officeDocument/2006/relationships/audio" Target="../media/gunshot.wav"/><Relationship Id="rId15" Type="http://schemas.openxmlformats.org/officeDocument/2006/relationships/audio" Target="../media/LASER.WAV"/><Relationship Id="rId16" Type="http://schemas.openxmlformats.org/officeDocument/2006/relationships/audio" Target="../media/gunshot.wav"/><Relationship Id="rId17" Type="http://schemas.openxmlformats.org/officeDocument/2006/relationships/audio" Target="../media/camera.wav"/><Relationship Id="rId18" Type="http://schemas.openxmlformats.org/officeDocument/2006/relationships/audio" Target="../media/LASER.WAV"/><Relationship Id="rId19" Type="http://schemas.openxmlformats.org/officeDocument/2006/relationships/audio" Target="../media/gunshot.wav"/><Relationship Id="rId20" Type="http://schemas.openxmlformats.org/officeDocument/2006/relationships/audio" Target="../media/camera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driveby.wav"/><Relationship Id="rId13" Type="http://schemas.openxmlformats.org/officeDocument/2006/relationships/audio" Target="../media/gunshot.wav"/><Relationship Id="rId14" Type="http://schemas.openxmlformats.org/officeDocument/2006/relationships/audio" Target="../media/driveby.wav"/><Relationship Id="rId15" Type="http://schemas.openxmlformats.org/officeDocument/2006/relationships/audio" Target="../media/carbrake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driveby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carbrake.wav"/><Relationship Id="rId8" Type="http://schemas.openxmlformats.org/officeDocument/2006/relationships/audio" Target="../media/projctor.wav"/><Relationship Id="rId9" Type="http://schemas.openxmlformats.org/officeDocument/2006/relationships/audio" Target="../media/camera.wav"/><Relationship Id="rId10" Type="http://schemas.openxmlformats.org/officeDocument/2006/relationships/audio" Target="../media/carbrake.wav"/><Relationship Id="rId11" Type="http://schemas.openxmlformats.org/officeDocument/2006/relationships/audio" Target="../media/gunshot.wav"/><Relationship Id="rId12" Type="http://schemas.openxmlformats.org/officeDocument/2006/relationships/audio" Target="../media/EXPLODE.WAV"/><Relationship Id="rId13" Type="http://schemas.openxmlformats.org/officeDocument/2006/relationships/audio" Target="../media/carbrake.wav"/><Relationship Id="rId14" Type="http://schemas.openxmlformats.org/officeDocument/2006/relationships/audio" Target="../media/gunshot.wav"/><Relationship Id="rId15" Type="http://schemas.openxmlformats.org/officeDocument/2006/relationships/audio" Target="../media/EXPLODE.WAV"/><Relationship Id="rId16" Type="http://schemas.openxmlformats.org/officeDocument/2006/relationships/audio" Target="../media/carbrake.wav"/><Relationship Id="rId17" Type="http://schemas.openxmlformats.org/officeDocument/2006/relationships/audio" Target="../media/gunshot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arbrake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audio" Target="../media/carbrake.wav"/><Relationship Id="rId13" Type="http://schemas.openxmlformats.org/officeDocument/2006/relationships/audio" Target="../media/gunshot.wav"/><Relationship Id="rId14" Type="http://schemas.openxmlformats.org/officeDocument/2006/relationships/audio" Target="../media/EXPLODE.WAV"/><Relationship Id="rId15" Type="http://schemas.openxmlformats.org/officeDocument/2006/relationships/audio" Target="../media/carbrake.wav"/><Relationship Id="rId16" Type="http://schemas.openxmlformats.org/officeDocument/2006/relationships/audio" Target="../media/gunshot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arbrake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audio" Target="../media/carbrake.wav"/><Relationship Id="rId13" Type="http://schemas.openxmlformats.org/officeDocument/2006/relationships/audio" Target="../media/gunshot.wav"/><Relationship Id="rId14" Type="http://schemas.openxmlformats.org/officeDocument/2006/relationships/audio" Target="../media/EXPLODE.WAV"/><Relationship Id="rId15" Type="http://schemas.openxmlformats.org/officeDocument/2006/relationships/audio" Target="../media/carbrake.wav"/><Relationship Id="rId16" Type="http://schemas.openxmlformats.org/officeDocument/2006/relationships/audio" Target="../media/gunshot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arbrake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audio" Target="../media/carbrake.wav"/><Relationship Id="rId13" Type="http://schemas.openxmlformats.org/officeDocument/2006/relationships/audio" Target="../media/gunshot.wav"/><Relationship Id="rId14" Type="http://schemas.openxmlformats.org/officeDocument/2006/relationships/audio" Target="../media/EXPLODE.WAV"/><Relationship Id="rId15" Type="http://schemas.openxmlformats.org/officeDocument/2006/relationships/audio" Target="../media/carbrake.wav"/><Relationship Id="rId16" Type="http://schemas.openxmlformats.org/officeDocument/2006/relationships/audio" Target="../media/gunshot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arbrake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audio" Target="../media/carbrake.wav"/><Relationship Id="rId13" Type="http://schemas.openxmlformats.org/officeDocument/2006/relationships/audio" Target="../media/gunshot.wav"/><Relationship Id="rId14" Type="http://schemas.openxmlformats.org/officeDocument/2006/relationships/audio" Target="../media/EXPLODE.WAV"/><Relationship Id="rId15" Type="http://schemas.openxmlformats.org/officeDocument/2006/relationships/audio" Target="../media/carbrake.wav"/><Relationship Id="rId16" Type="http://schemas.openxmlformats.org/officeDocument/2006/relationships/audio" Target="../media/gunshot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arbrake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audio" Target="../media/carbrake.wav"/><Relationship Id="rId13" Type="http://schemas.openxmlformats.org/officeDocument/2006/relationships/audio" Target="../media/gunshot.wav"/><Relationship Id="rId14" Type="http://schemas.openxmlformats.org/officeDocument/2006/relationships/audio" Target="../media/EXPLODE.WAV"/><Relationship Id="rId15" Type="http://schemas.openxmlformats.org/officeDocument/2006/relationships/audio" Target="../media/carbrake.wav"/><Relationship Id="rId16" Type="http://schemas.openxmlformats.org/officeDocument/2006/relationships/audio" Target="../media/gunshot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066680" y="1523880"/>
            <a:ext cx="2743200" cy="2743200"/>
            <a:chOff x="1066680" y="1523880"/>
            <a:chExt cx="2743200" cy="2743200"/>
          </a:xfrm>
        </p:grpSpPr>
        <p:sp>
          <p:nvSpPr>
            <p:cNvPr id="44" name=""/>
            <p:cNvSpPr/>
            <p:nvPr/>
          </p:nvSpPr>
          <p:spPr>
            <a:xfrm>
              <a:off x="1676160" y="15238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85640" y="15238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15238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04960" y="15238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66680" y="15238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15238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66680" y="18288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6680" y="21337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66680" y="24382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6668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6668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668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85640" y="15238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30481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334120" y="2590920"/>
                <a:ext cx="175248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4572000" y="426708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Left and rig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3581280"/>
            <a:ext cx="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895480"/>
            <a:ext cx="18288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38080" y="289548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629400" y="1905120"/>
            <a:ext cx="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144792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p and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438280" y="1294920"/>
            <a:ext cx="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124080"/>
            <a:ext cx="0" cy="1295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4952880"/>
            <a:ext cx="6629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Times New Roman"/>
              </a:rPr>
              <a:t>To plot the point ( 2, -4 ), start at the origin and go 2 units to the right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29718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0481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867280"/>
            <a:ext cx="6629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9900"/>
                </a:solidFill>
                <a:latin typeface="Times New Roman"/>
              </a:rPr>
              <a:t>then go 4 units dow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048120"/>
            <a:ext cx="0" cy="12189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41911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6324480"/>
            <a:ext cx="6629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Times New Roman"/>
              </a:rPr>
              <a:t>This is the point ( 2, -4 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286000" y="4343400"/>
                <a:ext cx="13143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609480"/>
            <a:ext cx="94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Exercises 9 and 10, use a scatter plot to see if the given information is correct. If not, explain how the data should be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209680" y="2895480"/>
            <a:ext cx="3276720" cy="3281400"/>
            <a:chOff x="2209680" y="2895480"/>
            <a:chExt cx="3276720" cy="3281400"/>
          </a:xfrm>
        </p:grpSpPr>
        <p:grpSp>
          <p:nvGrpSpPr>
            <p:cNvPr id="385" name=""/>
            <p:cNvGrpSpPr/>
            <p:nvPr/>
          </p:nvGrpSpPr>
          <p:grpSpPr>
            <a:xfrm>
              <a:off x="2209680" y="2900520"/>
              <a:ext cx="3276720" cy="3276360"/>
              <a:chOff x="2209680" y="2900520"/>
              <a:chExt cx="3276720" cy="3276360"/>
            </a:xfrm>
          </p:grpSpPr>
          <p:sp>
            <p:nvSpPr>
              <p:cNvPr id="386" name=""/>
              <p:cNvSpPr/>
              <p:nvPr/>
            </p:nvSpPr>
            <p:spPr>
              <a:xfrm>
                <a:off x="2209680" y="3719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09680" y="3992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209680" y="426564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09680" y="453852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09680" y="481176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209680" y="508464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09680" y="535788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209680" y="563076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09680" y="590400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09680" y="3446640"/>
                <a:ext cx="273060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20968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48292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75580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02904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30192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57516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4804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21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94160" y="3446640"/>
                <a:ext cx="27288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6704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40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21316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09680" y="3173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09680" y="2900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 flipV="1">
              <a:off x="3292560" y="28954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 flipH="1">
            <a:off x="2117880" y="2768760"/>
            <a:ext cx="79200" cy="3382920"/>
          </a:xfrm>
          <a:custGeom>
            <a:avLst/>
            <a:gdLst/>
            <a:ahLst/>
            <a:rect l="l" t="t" r="r" b="b"/>
            <a:pathLst>
              <a:path w="1" h="2291">
                <a:moveTo>
                  <a:pt x="0" y="22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209680" y="6095880"/>
            <a:ext cx="3276720" cy="76320"/>
          </a:xfrm>
          <a:custGeom>
            <a:avLst/>
            <a:gdLst/>
            <a:ahLst/>
            <a:rect l="l" t="t" r="r" b="b"/>
            <a:pathLst>
              <a:path w="2368" h="1">
                <a:moveTo>
                  <a:pt x="0" y="0"/>
                </a:moveTo>
                <a:lnTo>
                  <a:pt x="2368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5257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5029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05320" y="4648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495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09680" y="6172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2  3  4  5   6  7   8  9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2743200"/>
            <a:ext cx="762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838080" y="1523880"/>
            <a:ext cx="6629400" cy="1219320"/>
            <a:chOff x="838080" y="1523880"/>
            <a:chExt cx="6629400" cy="1219320"/>
          </a:xfrm>
        </p:grpSpPr>
        <p:grpSp>
          <p:nvGrpSpPr>
            <p:cNvPr id="420" name=""/>
            <p:cNvGrpSpPr/>
            <p:nvPr/>
          </p:nvGrpSpPr>
          <p:grpSpPr>
            <a:xfrm>
              <a:off x="1371600" y="1600200"/>
              <a:ext cx="6095880" cy="1143000"/>
              <a:chOff x="1371600" y="1600200"/>
              <a:chExt cx="6095880" cy="1143000"/>
            </a:xfrm>
          </p:grpSpPr>
          <p:sp>
            <p:nvSpPr>
              <p:cNvPr id="421" name=""/>
              <p:cNvSpPr/>
              <p:nvPr/>
            </p:nvSpPr>
            <p:spPr>
              <a:xfrm>
                <a:off x="1371600" y="1600200"/>
                <a:ext cx="6019560" cy="1143000"/>
              </a:xfrm>
              <a:prstGeom prst="rect">
                <a:avLst/>
              </a:prstGeom>
              <a:solidFill>
                <a:srgbClr val="ffffcc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600" y="2133720"/>
                <a:ext cx="6019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335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335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479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479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5623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623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767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767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3911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00200" y="1600200"/>
                <a:ext cx="586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uarts              3.0     4.0     5.0     6.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23880" y="2133720"/>
                <a:ext cx="563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Gallons           0.75    1.0      1.3    1.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838080" y="1523880"/>
              <a:ext cx="53352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V="1">
            <a:off x="2209680" y="3276360"/>
            <a:ext cx="2895840" cy="2895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76720" y="4495680"/>
            <a:ext cx="60948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5000" y="388620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5 Quarts should be 1.25 gallons to be in lin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36" idx="6"/>
            <a:endCxn id="437" idx="1"/>
          </p:cNvCxnSpPr>
          <p:nvPr/>
        </p:nvCxnSpPr>
        <p:spPr>
          <a:xfrm flipV="1">
            <a:off x="3904920" y="4312800"/>
            <a:ext cx="1810440" cy="411840"/>
          </a:xfrm>
          <a:prstGeom prst="curvedConnector5">
            <a:avLst>
              <a:gd name="adj1" fmla="val 49463"/>
              <a:gd name="adj2" fmla="val 49956"/>
              <a:gd name="adj3" fmla="val 49463"/>
            </a:avLst>
          </a:prstGeom>
          <a:ln w="38160">
            <a:solidFill>
              <a:srgbClr val="ff33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75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75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75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75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609480"/>
            <a:ext cx="94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Exercises 9 and 10, use a scatter plot to see if the given information is correct. If not, explain how the data should be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209680" y="2895480"/>
            <a:ext cx="3276720" cy="3281400"/>
            <a:chOff x="2209680" y="2895480"/>
            <a:chExt cx="3276720" cy="3281400"/>
          </a:xfrm>
        </p:grpSpPr>
        <p:grpSp>
          <p:nvGrpSpPr>
            <p:cNvPr id="442" name=""/>
            <p:cNvGrpSpPr/>
            <p:nvPr/>
          </p:nvGrpSpPr>
          <p:grpSpPr>
            <a:xfrm>
              <a:off x="2209680" y="2900520"/>
              <a:ext cx="3276720" cy="3276360"/>
              <a:chOff x="2209680" y="2900520"/>
              <a:chExt cx="3276720" cy="3276360"/>
            </a:xfrm>
          </p:grpSpPr>
          <p:sp>
            <p:nvSpPr>
              <p:cNvPr id="443" name=""/>
              <p:cNvSpPr/>
              <p:nvPr/>
            </p:nvSpPr>
            <p:spPr>
              <a:xfrm>
                <a:off x="2209680" y="3719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209680" y="3992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09680" y="426564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209680" y="453852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09680" y="481176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209680" y="508464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209680" y="535788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09680" y="563076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209680" y="590400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09680" y="3446640"/>
                <a:ext cx="273060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0968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48292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5580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02904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0192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57516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84804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121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94160" y="3446640"/>
                <a:ext cx="27288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6704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940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21316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09680" y="3173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09680" y="2900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V="1">
              <a:off x="3292560" y="28954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 flipH="1">
            <a:off x="2117880" y="2768760"/>
            <a:ext cx="79200" cy="3382920"/>
          </a:xfrm>
          <a:custGeom>
            <a:avLst/>
            <a:gdLst/>
            <a:ahLst/>
            <a:rect l="l" t="t" r="r" b="b"/>
            <a:pathLst>
              <a:path w="1" h="2291">
                <a:moveTo>
                  <a:pt x="0" y="22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209680" y="6095880"/>
            <a:ext cx="3276720" cy="76320"/>
          </a:xfrm>
          <a:custGeom>
            <a:avLst/>
            <a:gdLst/>
            <a:ahLst/>
            <a:rect l="l" t="t" r="r" b="b"/>
            <a:pathLst>
              <a:path w="2368" h="1">
                <a:moveTo>
                  <a:pt x="0" y="0"/>
                </a:moveTo>
                <a:lnTo>
                  <a:pt x="2368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71800" y="4800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67080" y="32004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09680" y="6172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2  3  4  5   6  7   8  9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00200" y="2743200"/>
            <a:ext cx="762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09480" y="1447920"/>
            <a:ext cx="7543080" cy="1218600"/>
            <a:chOff x="609480" y="1447920"/>
            <a:chExt cx="7543080" cy="1218600"/>
          </a:xfrm>
        </p:grpSpPr>
        <p:grpSp>
          <p:nvGrpSpPr>
            <p:cNvPr id="477" name=""/>
            <p:cNvGrpSpPr/>
            <p:nvPr/>
          </p:nvGrpSpPr>
          <p:grpSpPr>
            <a:xfrm>
              <a:off x="1294920" y="1523880"/>
              <a:ext cx="6857640" cy="1142640"/>
              <a:chOff x="1294920" y="1523880"/>
              <a:chExt cx="6857640" cy="1142640"/>
            </a:xfrm>
          </p:grpSpPr>
          <p:sp>
            <p:nvSpPr>
              <p:cNvPr id="478" name=""/>
              <p:cNvSpPr/>
              <p:nvPr/>
            </p:nvSpPr>
            <p:spPr>
              <a:xfrm>
                <a:off x="1294920" y="1523880"/>
                <a:ext cx="6771960" cy="1142640"/>
              </a:xfrm>
              <a:prstGeom prst="rect">
                <a:avLst/>
              </a:prstGeom>
              <a:solidFill>
                <a:srgbClr val="ffffcc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294920" y="2057040"/>
                <a:ext cx="6771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5208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5208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98060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060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00948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00948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03800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03800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06688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551960" y="1523880"/>
                <a:ext cx="660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Hours                   3          5          6         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465920" y="2057040"/>
                <a:ext cx="634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ental Charge     14        20        24       3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609480" y="1447920"/>
              <a:ext cx="8568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0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 flipV="1">
            <a:off x="2209680" y="2819160"/>
            <a:ext cx="2514600" cy="33526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5000" y="3886200"/>
            <a:ext cx="3429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 Hours should be 12 dollars in rental charges to be in lin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00440" y="4678200"/>
            <a:ext cx="60948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94" idx="6"/>
            <a:endCxn id="493" idx="1"/>
          </p:cNvCxnSpPr>
          <p:nvPr/>
        </p:nvCxnSpPr>
        <p:spPr>
          <a:xfrm flipV="1">
            <a:off x="3429000" y="4503240"/>
            <a:ext cx="2286720" cy="403920"/>
          </a:xfrm>
          <a:prstGeom prst="curvedConnector5">
            <a:avLst>
              <a:gd name="adj1" fmla="val 49582"/>
              <a:gd name="adj2" fmla="val 49955"/>
              <a:gd name="adj3" fmla="val 49582"/>
            </a:avLst>
          </a:prstGeom>
          <a:ln w="38160">
            <a:solidFill>
              <a:srgbClr val="ff33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75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75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85800" y="2590920"/>
            <a:ext cx="2743200" cy="2743200"/>
            <a:chOff x="685800" y="2590920"/>
            <a:chExt cx="2743200" cy="2743200"/>
          </a:xfrm>
        </p:grpSpPr>
        <p:sp>
          <p:nvSpPr>
            <p:cNvPr id="81" name=""/>
            <p:cNvSpPr/>
            <p:nvPr/>
          </p:nvSpPr>
          <p:spPr>
            <a:xfrm>
              <a:off x="12952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0476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40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8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5800" y="2590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" y="289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5800" y="32007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800" y="3505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" y="381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41151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" y="44197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472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50295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4760" y="25909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" y="41151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lot and label the ordered pairs in a coordinate plan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4382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: 5 units to the right, 4 units 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8195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19520" y="2819520"/>
          <a:ext cx="41436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81952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0880" y="1676520"/>
                <a:ext cx="7078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,4</m:t>
                        </m:r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,0</m:t>
                        </m:r>
                      </m:e>
                    </m:d>
                    <m:r>
                      <m:t xml:space="preserve">,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657600" y="297180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: 3 units to the left, on x-ax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0384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4114800"/>
          <a:ext cx="4143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1148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657600" y="350532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: 1 unit to the left, 2 unit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46483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66680" y="4724280"/>
          <a:ext cx="414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72428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85800" y="2590920"/>
            <a:ext cx="2743200" cy="2743200"/>
            <a:chOff x="685800" y="2590920"/>
            <a:chExt cx="2743200" cy="2743200"/>
          </a:xfrm>
        </p:grpSpPr>
        <p:sp>
          <p:nvSpPr>
            <p:cNvPr id="114" name=""/>
            <p:cNvSpPr/>
            <p:nvPr/>
          </p:nvSpPr>
          <p:spPr>
            <a:xfrm>
              <a:off x="12952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476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146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240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800" y="2590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289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" y="32007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" y="3505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5800" y="381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" y="41151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44197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72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50295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4760" y="25909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" y="41151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lot and label the ordered pairs in a coordinate plan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4382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: 3 units to the left, 2 units 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4290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971800"/>
          <a:ext cx="41436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18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04920" y="1676520"/>
                <a:ext cx="6815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,2</m:t>
                        </m:r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0</m:t>
                        </m:r>
                      </m:e>
                    </m:d>
                    <m:r>
                      <m:t xml:space="preserve">,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657600" y="297180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: at the orig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40384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28800" y="4114800"/>
          <a:ext cx="4143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1148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657600" y="3505320"/>
            <a:ext cx="5486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: 2 units to the right, 2 unit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6483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14600" y="4724280"/>
          <a:ext cx="414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72428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2590920"/>
            <a:ext cx="2743200" cy="2743200"/>
            <a:chOff x="685800" y="2590920"/>
            <a:chExt cx="2743200" cy="2743200"/>
          </a:xfrm>
        </p:grpSpPr>
        <p:sp>
          <p:nvSpPr>
            <p:cNvPr id="147" name=""/>
            <p:cNvSpPr/>
            <p:nvPr/>
          </p:nvSpPr>
          <p:spPr>
            <a:xfrm>
              <a:off x="12952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0476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240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" y="2590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" y="289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" y="32007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3505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381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41151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44197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472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5800" y="50295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4760" y="25909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41151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lot and label the ordered pairs in a coordinate plan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24382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: on the y-axis, 4 unit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5257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95280" y="5105520"/>
          <a:ext cx="41436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10552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28600" y="1676520"/>
                <a:ext cx="655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,5</m:t>
                        </m:r>
                      </m:e>
                    </m:d>
                    <m:r>
                      <m:t xml:space="preserve">,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657600" y="297180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: 3 units to the right, 5 units 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25146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895480" y="2590920"/>
          <a:ext cx="4143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59092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657600" y="3505320"/>
            <a:ext cx="5486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: 3 units to the right, 1 unit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43434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819520" y="4343400"/>
          <a:ext cx="414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3434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85800" y="2590920"/>
            <a:ext cx="2743200" cy="2743200"/>
            <a:chOff x="685800" y="2590920"/>
            <a:chExt cx="2743200" cy="2743200"/>
          </a:xfrm>
        </p:grpSpPr>
        <p:sp>
          <p:nvSpPr>
            <p:cNvPr id="180" name=""/>
            <p:cNvSpPr/>
            <p:nvPr/>
          </p:nvSpPr>
          <p:spPr>
            <a:xfrm>
              <a:off x="12952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476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146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58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800" y="2590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" y="289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" y="32007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" y="3505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" y="381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" y="41151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800" y="44197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800" y="472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50295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04760" y="25909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" y="41151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lot and label the ordered pairs in a coordinate plan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24382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: 1 unit to the left, 2 unit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46483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43000" y="4724280"/>
          <a:ext cx="41436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2428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28600" y="1676520"/>
                <a:ext cx="75182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657600" y="2971800"/>
            <a:ext cx="5486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: 5 units to the right, 2 unit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46483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581280" y="4648320"/>
          <a:ext cx="4143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64832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657600" y="3809880"/>
            <a:ext cx="5486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: 4 units to the left, on the x-ax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0384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04920" y="3581280"/>
          <a:ext cx="414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58128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85800" y="2590920"/>
            <a:ext cx="2743200" cy="2743200"/>
            <a:chOff x="685800" y="2590920"/>
            <a:chExt cx="2743200" cy="2743200"/>
          </a:xfrm>
        </p:grpSpPr>
        <p:sp>
          <p:nvSpPr>
            <p:cNvPr id="213" name=""/>
            <p:cNvSpPr/>
            <p:nvPr/>
          </p:nvSpPr>
          <p:spPr>
            <a:xfrm>
              <a:off x="12952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476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146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40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58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" y="2590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5800" y="289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" y="32007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" y="3505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800" y="381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" y="41151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800" y="44197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" y="472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5800" y="50295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04760" y="25909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5800" y="41151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lot and label the ordered pairs in a coordinate plan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4382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: 1 unit to the left, 3 units 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31240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143000" y="2743200"/>
          <a:ext cx="41436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432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04920" y="1676520"/>
                <a:ext cx="6640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3</m:t>
                        </m:r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0</m:t>
                        </m:r>
                      </m:e>
                    </m:d>
                    <m:r>
                      <m:t xml:space="preserve">,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657600" y="2971800"/>
            <a:ext cx="5486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: 2 units to the right, on the x-ax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40384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514600" y="4114800"/>
          <a:ext cx="4143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1148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657600" y="3809880"/>
            <a:ext cx="5486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: 3 units to the right, 2 units down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46483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819520" y="4724280"/>
          <a:ext cx="414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72428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85800" y="2590920"/>
            <a:ext cx="2743200" cy="2743200"/>
            <a:chOff x="685800" y="2590920"/>
            <a:chExt cx="2743200" cy="2743200"/>
          </a:xfrm>
        </p:grpSpPr>
        <p:sp>
          <p:nvSpPr>
            <p:cNvPr id="246" name=""/>
            <p:cNvSpPr/>
            <p:nvPr/>
          </p:nvSpPr>
          <p:spPr>
            <a:xfrm>
              <a:off x="12952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0476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46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40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5800" y="2590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800" y="289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800" y="32007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5800" y="3505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" y="381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" y="41151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800" y="44197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472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800" y="50295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4760" y="25909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41151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lot and label the ordered pairs in a coordinate plan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24382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: 2 units to the right, 4 units 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28195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590920" y="2514600"/>
          <a:ext cx="41436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146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04920" y="1676520"/>
                <a:ext cx="6462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4</m:t>
                        </m:r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,5</m:t>
                        </m:r>
                      </m:e>
                    </m:d>
                    <m:r>
                      <m:t xml:space="preserve">,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3657600" y="297180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: 2 units to the left, 5 units 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5146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38080" y="2514600"/>
          <a:ext cx="4143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3657600" y="350532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: on the y-axis, 3 units up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981080" y="3200400"/>
          <a:ext cx="414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2004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094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7 and 8, make a scatter plot of the data. Use the horizontal axis to represent tim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09680" y="2895480"/>
            <a:ext cx="3276720" cy="3281400"/>
            <a:chOff x="2209680" y="2895480"/>
            <a:chExt cx="3276720" cy="3281400"/>
          </a:xfrm>
        </p:grpSpPr>
        <p:grpSp>
          <p:nvGrpSpPr>
            <p:cNvPr id="279" name=""/>
            <p:cNvGrpSpPr/>
            <p:nvPr/>
          </p:nvGrpSpPr>
          <p:grpSpPr>
            <a:xfrm>
              <a:off x="2209680" y="2900520"/>
              <a:ext cx="3276720" cy="3276360"/>
              <a:chOff x="2209680" y="2900520"/>
              <a:chExt cx="3276720" cy="3276360"/>
            </a:xfrm>
          </p:grpSpPr>
          <p:sp>
            <p:nvSpPr>
              <p:cNvPr id="280" name=""/>
              <p:cNvSpPr/>
              <p:nvPr/>
            </p:nvSpPr>
            <p:spPr>
              <a:xfrm>
                <a:off x="2209680" y="3719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209680" y="3992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209680" y="426564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09680" y="453852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09680" y="481176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209680" y="508464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209680" y="535788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209680" y="563076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09680" y="590400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209680" y="3446640"/>
                <a:ext cx="273060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0968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8292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5580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02904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0192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57516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4804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121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94160" y="3446640"/>
                <a:ext cx="27288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6704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40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1316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09680" y="3173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09680" y="2900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3292560" y="28954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 flipH="1">
            <a:off x="2117880" y="2768760"/>
            <a:ext cx="79200" cy="3382920"/>
          </a:xfrm>
          <a:custGeom>
            <a:avLst/>
            <a:gdLst/>
            <a:ahLst/>
            <a:rect l="l" t="t" r="r" b="b"/>
            <a:pathLst>
              <a:path w="1" h="2291">
                <a:moveTo>
                  <a:pt x="0" y="22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209680" y="6095880"/>
            <a:ext cx="3276720" cy="76320"/>
          </a:xfrm>
          <a:custGeom>
            <a:avLst/>
            <a:gdLst/>
            <a:ahLst/>
            <a:rect l="l" t="t" r="r" b="b"/>
            <a:pathLst>
              <a:path w="2368" h="1">
                <a:moveTo>
                  <a:pt x="0" y="0"/>
                </a:moveTo>
                <a:lnTo>
                  <a:pt x="2368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33920" y="3657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6172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7   98   99  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2743200"/>
            <a:ext cx="762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838080" y="1523880"/>
            <a:ext cx="6629400" cy="1219320"/>
            <a:chOff x="838080" y="1523880"/>
            <a:chExt cx="6629400" cy="1219320"/>
          </a:xfrm>
        </p:grpSpPr>
        <p:grpSp>
          <p:nvGrpSpPr>
            <p:cNvPr id="314" name=""/>
            <p:cNvGrpSpPr/>
            <p:nvPr/>
          </p:nvGrpSpPr>
          <p:grpSpPr>
            <a:xfrm>
              <a:off x="1371600" y="1600200"/>
              <a:ext cx="6095880" cy="1143000"/>
              <a:chOff x="1371600" y="1600200"/>
              <a:chExt cx="6095880" cy="1143000"/>
            </a:xfrm>
          </p:grpSpPr>
          <p:sp>
            <p:nvSpPr>
              <p:cNvPr id="315" name=""/>
              <p:cNvSpPr/>
              <p:nvPr/>
            </p:nvSpPr>
            <p:spPr>
              <a:xfrm>
                <a:off x="1371600" y="1600200"/>
                <a:ext cx="6019560" cy="1143000"/>
              </a:xfrm>
              <a:prstGeom prst="rect">
                <a:avLst/>
              </a:prstGeom>
              <a:solidFill>
                <a:srgbClr val="ffffcc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371600" y="2133720"/>
                <a:ext cx="6019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335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335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479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479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623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623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767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767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911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00200" y="1600200"/>
                <a:ext cx="586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ear               1997  1998   1999  2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23880" y="2133720"/>
                <a:ext cx="563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embers         74      81       89      9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838080" y="1523880"/>
              <a:ext cx="53352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75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75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75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75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6094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7 and 8, make a scatter plot of the data. Use the horizontal axis to represent tim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209680" y="2895480"/>
            <a:ext cx="3276720" cy="3281400"/>
            <a:chOff x="2209680" y="2895480"/>
            <a:chExt cx="3276720" cy="3281400"/>
          </a:xfrm>
        </p:grpSpPr>
        <p:grpSp>
          <p:nvGrpSpPr>
            <p:cNvPr id="332" name=""/>
            <p:cNvGrpSpPr/>
            <p:nvPr/>
          </p:nvGrpSpPr>
          <p:grpSpPr>
            <a:xfrm>
              <a:off x="2209680" y="2900520"/>
              <a:ext cx="3276720" cy="3276360"/>
              <a:chOff x="2209680" y="2900520"/>
              <a:chExt cx="3276720" cy="3276360"/>
            </a:xfrm>
          </p:grpSpPr>
          <p:sp>
            <p:nvSpPr>
              <p:cNvPr id="333" name=""/>
              <p:cNvSpPr/>
              <p:nvPr/>
            </p:nvSpPr>
            <p:spPr>
              <a:xfrm>
                <a:off x="2209680" y="3719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09680" y="3992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209680" y="426564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209680" y="453852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09680" y="481176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209680" y="508464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9680" y="535788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209680" y="563076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209680" y="590400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209680" y="3446640"/>
                <a:ext cx="273060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20968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48292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75580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02904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0192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7516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4804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121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394160" y="3446640"/>
                <a:ext cx="27288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704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40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21316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209680" y="3173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09680" y="2900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flipV="1">
              <a:off x="3292560" y="28954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 flipH="1">
            <a:off x="2117880" y="2768760"/>
            <a:ext cx="79200" cy="3382920"/>
          </a:xfrm>
          <a:custGeom>
            <a:avLst/>
            <a:gdLst/>
            <a:ahLst/>
            <a:rect l="l" t="t" r="r" b="b"/>
            <a:pathLst>
              <a:path w="1" h="2291">
                <a:moveTo>
                  <a:pt x="0" y="22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209680" y="6095880"/>
            <a:ext cx="3276720" cy="76320"/>
          </a:xfrm>
          <a:custGeom>
            <a:avLst/>
            <a:gdLst/>
            <a:ahLst/>
            <a:rect l="l" t="t" r="r" b="b"/>
            <a:pathLst>
              <a:path w="2368" h="1">
                <a:moveTo>
                  <a:pt x="0" y="0"/>
                </a:moveTo>
                <a:lnTo>
                  <a:pt x="2368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4876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0400" y="4495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5257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6172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   F  M A M J  J  A  S O  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00200" y="2743200"/>
            <a:ext cx="762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838080" y="1523880"/>
            <a:ext cx="6629400" cy="1219320"/>
            <a:chOff x="838080" y="1523880"/>
            <a:chExt cx="6629400" cy="1219320"/>
          </a:xfrm>
        </p:grpSpPr>
        <p:grpSp>
          <p:nvGrpSpPr>
            <p:cNvPr id="367" name=""/>
            <p:cNvGrpSpPr/>
            <p:nvPr/>
          </p:nvGrpSpPr>
          <p:grpSpPr>
            <a:xfrm>
              <a:off x="1371600" y="1600200"/>
              <a:ext cx="6095880" cy="1143000"/>
              <a:chOff x="1371600" y="1600200"/>
              <a:chExt cx="6095880" cy="1143000"/>
            </a:xfrm>
          </p:grpSpPr>
          <p:sp>
            <p:nvSpPr>
              <p:cNvPr id="368" name=""/>
              <p:cNvSpPr/>
              <p:nvPr/>
            </p:nvSpPr>
            <p:spPr>
              <a:xfrm>
                <a:off x="1371600" y="1600200"/>
                <a:ext cx="6019560" cy="1143000"/>
              </a:xfrm>
              <a:prstGeom prst="rect">
                <a:avLst/>
              </a:prstGeom>
              <a:solidFill>
                <a:srgbClr val="ffffcc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71600" y="2133720"/>
                <a:ext cx="6019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335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35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6479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6479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3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3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4767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767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911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600200" y="1600200"/>
                <a:ext cx="586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onth             Jan.  Apr.   Aug.  Dec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523880" y="2133720"/>
                <a:ext cx="563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dults              22      30       15      4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838080" y="1523880"/>
              <a:ext cx="53352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75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75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7T21:29:29Z</dcterms:modified>
  <cp:revision>244</cp:revision>
  <dc:subject/>
  <dc:title>No Slide Title</dc:title>
</cp:coreProperties>
</file>